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11.wmf" ContentType="image/x-wmf"/>
  <Override PartName="/ppt/media/image17.jpeg" ContentType="image/jpeg"/>
  <Override PartName="/ppt/media/image10.wmf" ContentType="image/x-wmf"/>
  <Override PartName="/ppt/media/image6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8B5-2B82-4CD7-A71C-D830A64A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85A-AA39-4725-8A43-990C146C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A4D-1585-4200-B41E-2C1E7813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5D9-0B7F-488A-B0F1-EA19A49C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DA75-E476-46E4-823B-37CC3D07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2618-712A-4140-8247-25B47FB1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7FB9-ED01-4BF4-9368-67121394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007D-27BC-4863-9F5B-D1C5D1BB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81A7-E12A-417B-BF62-71ED45B6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DD78-4475-4198-9C77-6FE92F44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3DEE-2B80-4333-AB21-3199822E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BAA-E4C6-44E9-AD8F-AA68D2C6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EF05-F4C8-4E74-994A-20EA035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D035-8004-4B37-BD51-7EE11498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4497-751F-454B-B19A-655F3701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471D-1561-4481-AD3B-6F092B1B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9325-C7DD-400C-9B53-4E756FA0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111-A45B-4A6B-86BC-907594EA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ADD-E9B5-4A25-BFB8-5DA80B18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6C2-6F57-46A7-A612-39DC4000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03B-0917-448C-9187-11C798AA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CAD-9467-4485-B414-B0FB4F9C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921-3311-4426-AF31-0F358475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74E-0412-4683-A9D9-FE03EA79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23EA-6030-4BD8-9924-1A4D9E838D9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4D7F-ABC3-438B-BD40-26C12B4D322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osa and Blanc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ocabulary and Amazing Wor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Grade Re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dismay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feeling of deep disappointment and fe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462040" cy="2965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2019600" cy="1871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629400" y="3505320"/>
            <a:ext cx="16779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fficie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get things done without wasting time or energ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286000" y="3173400"/>
            <a:ext cx="48006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beam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smile in a very happy w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1803600" cy="1949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1996920" cy="1771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3276720" y="2743200"/>
            <a:ext cx="2592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orever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ver ending; alway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1334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ituation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 act or happening; condi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581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tortillas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luckies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chilies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rtilla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n, flat, round breads usually make of cornmea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3276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luckies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e who has had the best fortun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2930400" cy="344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hilie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 or red pepper with a hot tas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638680" y="3352680"/>
            <a:ext cx="2335320" cy="2186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187020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azing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bundan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ssis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enerou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disma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efficien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eam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orever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00"/>
                </a:solidFill>
                <a:latin typeface="Arial Black"/>
              </a:rPr>
              <a:t>situation</a:t>
            </a:r>
            <a:endParaRPr b="0" lang="en-US" sz="5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bunda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re than enough or plent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24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ssis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help someone do some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2887560" cy="380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2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enerou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share with other people; unselfis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1959120" cy="1312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1981080" y="5029200"/>
            <a:ext cx="1812960" cy="142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9:16:43Z</dcterms:created>
  <dc:creator>dyera</dc:creator>
  <dc:description/>
  <dc:language>en-US</dc:language>
  <cp:lastModifiedBy>dyera</cp:lastModifiedBy>
  <dcterms:modified xsi:type="dcterms:W3CDTF">2007-12-03T19:34:58Z</dcterms:modified>
  <cp:revision>2</cp:revision>
  <dc:subject/>
  <dc:title>Rosa and Blanca Vocabulary and Amazing Words</dc:title>
</cp:coreProperties>
</file>